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EE9-9DAE-43D1-957A-79513A3B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1AF9-7334-45E1-9CAB-B9D9FE27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155-5CDA-4C4E-9B7E-FB5A15C1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816-FD34-45FC-B74E-CB49070C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0E06-CEC2-4B7A-9704-EBDEECC5B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4B7-F8B0-49C1-9E0E-F00CDF20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2D6A-90D2-42A4-A853-63A592A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38F5-9E2D-411E-AF79-B51E7B5B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4468-B33B-4F31-943D-62FC4823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1347-863D-42B6-ACF7-1895D408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513-74A3-4968-BFBD-A7727B58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446B-B3A7-4A2C-B99C-7EB07A82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970E-4F2F-4836-882C-93C63048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B079-D77F-4369-A78B-9499FCDE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67AE-7ABD-4C28-8F46-B70BAD4B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F731-22EE-4616-B05A-A7A4E792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C757-A55E-49DD-A2CC-16D1EBA6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95A9-BCAF-48D4-942F-CCBABE74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50A0-8012-407D-B866-D425F2F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63E6-C7CC-411D-9503-7B6F6B76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A65-2974-40FC-A69F-B250C94E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D657-F5D9-4D2D-8073-AA0131CC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9BC-2B17-444E-B6CE-561BE728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A16-795B-4362-B22C-3E35E1D2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BC23-9A3D-4E2C-9076-0EF8BAC5CFB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712800" cy="6846840"/>
            </a:xfrm>
            <a:custGeom>
              <a:avLst/>
              <a:gdLst/>
              <a:ahLst/>
              <a:rect l="l" t="t" r="r" b="b"/>
              <a:pathLst>
                <a:path w="449" h="4313">
                  <a:moveTo>
                    <a:pt x="0" y="0"/>
                  </a:moveTo>
                  <a:lnTo>
                    <a:pt x="0" y="4312"/>
                  </a:lnTo>
                  <a:lnTo>
                    <a:pt x="149" y="4312"/>
                  </a:lnTo>
                  <a:lnTo>
                    <a:pt x="149" y="0"/>
                  </a:lnTo>
                  <a:lnTo>
                    <a:pt x="299" y="0"/>
                  </a:lnTo>
                  <a:lnTo>
                    <a:pt x="299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448" y="149"/>
                  </a:lnTo>
                  <a:lnTo>
                    <a:pt x="0" y="149"/>
                  </a:lnTo>
                  <a:lnTo>
                    <a:pt x="0" y="297"/>
                  </a:lnTo>
                  <a:lnTo>
                    <a:pt x="448" y="297"/>
                  </a:lnTo>
                  <a:lnTo>
                    <a:pt x="448" y="446"/>
                  </a:lnTo>
                  <a:lnTo>
                    <a:pt x="0" y="446"/>
                  </a:lnTo>
                  <a:lnTo>
                    <a:pt x="0" y="595"/>
                  </a:lnTo>
                  <a:lnTo>
                    <a:pt x="448" y="595"/>
                  </a:lnTo>
                  <a:lnTo>
                    <a:pt x="448" y="743"/>
                  </a:lnTo>
                  <a:lnTo>
                    <a:pt x="0" y="743"/>
                  </a:lnTo>
                  <a:lnTo>
                    <a:pt x="0" y="892"/>
                  </a:lnTo>
                  <a:lnTo>
                    <a:pt x="448" y="892"/>
                  </a:lnTo>
                  <a:lnTo>
                    <a:pt x="448" y="1041"/>
                  </a:lnTo>
                  <a:lnTo>
                    <a:pt x="0" y="1041"/>
                  </a:lnTo>
                  <a:lnTo>
                    <a:pt x="0" y="1190"/>
                  </a:lnTo>
                  <a:lnTo>
                    <a:pt x="448" y="1190"/>
                  </a:lnTo>
                  <a:lnTo>
                    <a:pt x="448" y="1338"/>
                  </a:lnTo>
                  <a:lnTo>
                    <a:pt x="0" y="1338"/>
                  </a:lnTo>
                  <a:lnTo>
                    <a:pt x="0" y="1487"/>
                  </a:lnTo>
                  <a:lnTo>
                    <a:pt x="448" y="1487"/>
                  </a:lnTo>
                  <a:lnTo>
                    <a:pt x="448" y="1636"/>
                  </a:lnTo>
                  <a:lnTo>
                    <a:pt x="0" y="1636"/>
                  </a:lnTo>
                  <a:lnTo>
                    <a:pt x="0" y="1784"/>
                  </a:lnTo>
                  <a:lnTo>
                    <a:pt x="448" y="1784"/>
                  </a:lnTo>
                  <a:lnTo>
                    <a:pt x="448" y="1933"/>
                  </a:lnTo>
                  <a:lnTo>
                    <a:pt x="0" y="1933"/>
                  </a:lnTo>
                  <a:lnTo>
                    <a:pt x="0" y="2082"/>
                  </a:lnTo>
                  <a:lnTo>
                    <a:pt x="448" y="2082"/>
                  </a:lnTo>
                  <a:lnTo>
                    <a:pt x="448" y="2230"/>
                  </a:lnTo>
                  <a:lnTo>
                    <a:pt x="0" y="2230"/>
                  </a:lnTo>
                  <a:lnTo>
                    <a:pt x="0" y="2379"/>
                  </a:lnTo>
                  <a:lnTo>
                    <a:pt x="448" y="2379"/>
                  </a:lnTo>
                  <a:lnTo>
                    <a:pt x="448" y="2528"/>
                  </a:lnTo>
                  <a:lnTo>
                    <a:pt x="0" y="2528"/>
                  </a:lnTo>
                  <a:lnTo>
                    <a:pt x="0" y="2676"/>
                  </a:lnTo>
                  <a:lnTo>
                    <a:pt x="448" y="2676"/>
                  </a:lnTo>
                  <a:lnTo>
                    <a:pt x="448" y="2825"/>
                  </a:lnTo>
                  <a:lnTo>
                    <a:pt x="0" y="2825"/>
                  </a:lnTo>
                  <a:lnTo>
                    <a:pt x="0" y="2974"/>
                  </a:lnTo>
                  <a:lnTo>
                    <a:pt x="448" y="2974"/>
                  </a:lnTo>
                  <a:lnTo>
                    <a:pt x="448" y="3122"/>
                  </a:lnTo>
                  <a:lnTo>
                    <a:pt x="0" y="3122"/>
                  </a:lnTo>
                  <a:lnTo>
                    <a:pt x="0" y="3271"/>
                  </a:lnTo>
                  <a:lnTo>
                    <a:pt x="448" y="3271"/>
                  </a:lnTo>
                  <a:lnTo>
                    <a:pt x="448" y="3420"/>
                  </a:lnTo>
                  <a:lnTo>
                    <a:pt x="0" y="3420"/>
                  </a:lnTo>
                  <a:lnTo>
                    <a:pt x="0" y="3569"/>
                  </a:lnTo>
                  <a:lnTo>
                    <a:pt x="448" y="3569"/>
                  </a:lnTo>
                  <a:lnTo>
                    <a:pt x="448" y="3717"/>
                  </a:lnTo>
                  <a:lnTo>
                    <a:pt x="0" y="3717"/>
                  </a:lnTo>
                  <a:lnTo>
                    <a:pt x="0" y="3866"/>
                  </a:lnTo>
                  <a:lnTo>
                    <a:pt x="448" y="3866"/>
                  </a:lnTo>
                  <a:lnTo>
                    <a:pt x="448" y="4015"/>
                  </a:lnTo>
                  <a:lnTo>
                    <a:pt x="0" y="4015"/>
                  </a:lnTo>
                  <a:lnTo>
                    <a:pt x="0" y="4163"/>
                  </a:lnTo>
                  <a:lnTo>
                    <a:pt x="448" y="4163"/>
                  </a:lnTo>
                  <a:lnTo>
                    <a:pt x="448" y="4312"/>
                  </a:lnTo>
                  <a:lnTo>
                    <a:pt x="0" y="4312"/>
                  </a:lnTo>
                  <a:lnTo>
                    <a:pt x="0" y="4312"/>
                  </a:lnTo>
                  <a:lnTo>
                    <a:pt x="448" y="4312"/>
                  </a:lnTo>
                  <a:lnTo>
                    <a:pt x="448" y="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31B1-D8C4-453D-80E0-4E0D788692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hapter 15</a:t>
            </a:r>
            <a:br>
              <a:rPr sz="36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IVI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578640"/>
            <a:ext cx="84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spects, Plans, and Expect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2436840"/>
            <a:ext cx="772956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adopts defensive strategy: North must fight in unfamiliar, hostile terra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dopts two-front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Confederate capital, Richmond, 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ize control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loy navy to blockade Southern 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verview of Civil War Strate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bilizing the Home Fron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North and South begin co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 war through taxes, bonds, p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industry supplies Union armie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rsenals supply Confederate ar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s to finance lead to runaway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olitical Leadership: Northern Success and Southern Failur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expands wartime pow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s martial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isons 10,000 "subversives" without t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closed down a few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mainly with military du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s civilian morale,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influence with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arly Campaigns and Battl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naval supre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troops cleared from West Virginia, Kentucky, much of 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leans captu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l campaign for the Mississippi at Shil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 Richmond from ca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655800" cy="46479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2880" y="590400"/>
            <a:ext cx="327672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1-1862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iplomatic Struggl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88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igerent rights extended to Confede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: Recognition of independence on proof that South can win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: Confederacy not recognized unless England does so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King Cotton" has little influence on foreign policy of other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ight to the Finis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dopts radical measures to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3: War turns against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resistance contin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ming of Emancip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6448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2, 1862: Antietam prompts preliminary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nder in 100 days or lose 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, 1863: Proclamation put into effect for areas still in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flee to Unio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cy loses thousands of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rican Americans 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2436840"/>
            <a:ext cx="78408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,000 African American Union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thers labor in Northern war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pushes further for black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s governments in conquered Southern states that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, Missouri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31, 1865: 13th Amendment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Storm Gather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ession does not necessarily mean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last attempt to reconcile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response to secession deb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Tide Tur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12200" cy="54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, 1863: War-wear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riots against con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-war activist like Congressman Clement Vallandigham arres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 bogged down at Vicksbur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defeated at Chancello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“Copperheads” attack Linco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invasion of North fails at Battle of Getty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sburg falls, North holds the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9, 1864: Grant made supreme commander of Union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invades the South on all fro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Sherman marches through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lays siege to Richmond, Peter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2: Sherman takes Atla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8: Lincoln re-e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lection of 186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057400"/>
            <a:ext cx="769608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di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 Vo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oral Vo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col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,213,655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1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Clell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crati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,805,23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Out of a total of 233 electoral votes. The eleven secessionist states—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abama, Arkansas, Florida, Georgia, Louisiana, Mississippi, No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olina, South Carolina, Tennessee, Texas, and Virginia—did not vo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76560" y="590400"/>
            <a:ext cx="388620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3-1865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0880" y="2133720"/>
            <a:ext cx="75150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rman’s March to the sea through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ched earth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, 1865: Grant takes Richmo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9, 1865: Lee surren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4, 1865: Lincoln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8, 1865: Last major Confederate force under Joseph Johnston surrend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8,000 troop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eft women seek non-domestic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illion African Americans free, not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workers face wartim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sualties of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56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predominant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takes activist role in the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tariffs, free land, national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n Organizational Revolution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2211120"/>
            <a:ext cx="77295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bureaucratic state eme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 gives way to organized, cooperativ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8304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20,1860: South Carolina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1: Confederate States of America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South Carolina, Georgia, Florida, Alabama, Mississippi, Louisiana, and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8001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 headed by moder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constitution resemble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restore pre-Republican Party Un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hope to attract Northern states into Confed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Failure of Comprom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tenden Plan: Extend the Missouri Compromise line to the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reject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think it will end secess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sperceived depth of support for secession and thought compromise would demoralize union sympathiz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ed as repudiation of majority rule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the War Ca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seeks action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3, 1861: Fort Sumter, S.C,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5: Lincoln calls out Northern state militias to suppress Southern insu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–May: Upper South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states: Slave states remain i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defined as effort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justing to Tota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must win by destroying will to res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War: a test of societies, economies, political systems as well as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ources of the Union and the Confederacy, 186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4:06:34Z</dcterms:created>
  <dc:creator>CMU</dc:creator>
  <dc:description/>
  <cp:keywords/>
  <dc:language>en-US</dc:language>
  <cp:lastModifiedBy>Teresa Ward User</cp:lastModifiedBy>
  <cp:lastPrinted>2011-08-16T00:38:00Z</cp:lastPrinted>
  <dcterms:modified xsi:type="dcterms:W3CDTF">2006-11-09T17:11:57Z</dcterms:modified>
  <cp:revision>11</cp:revision>
  <dc:subject/>
  <dc:title>SECESSION AND THE CIVIL WAR</dc:title>
</cp:coreProperties>
</file>